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0" y="9431280"/>
            <a:ext cx="679752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8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64DF3-D0B5-44FD-804B-BB1B2A895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DD345-EC1D-4B60-8FEB-E8DBAA16F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el Material Informativo para el Participante: Significación de los Factores Habilitantes e Inhabilitantes para el Mapeo Particip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5C8A1-C6E3-4B21-95DC-E68402F63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75455-9149-41B5-8B9E-1C2C31497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7903D-4F62-43F7-8F66-660EC6D5E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6FC82-E2D5-4027-813F-DC02FDFB4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F7847-60B2-4648-9134-A92C4D7D1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C9417-B85E-4A20-9105-66AAA55A4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37BA4-A27D-4AE8-9BE0-C89F10DE5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3621B-3B83-4181-81F4-443EC4934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05F34-BA8B-4D65-884C-C3C088F41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6B378-E65A-4296-BB3F-3F8F4C031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alizar el Ejercicio No. 1: Objetivos y actores en mapeo participativ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43CB4-363D-47A5-BA2F-116784CD1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31DAC-C414-425E-8EB2-A043CA4B5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jercicio No. 2: Limitaciones a la planificación y la gestión participativ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8E78-2A2C-4A96-8908-F33C597010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03F8-A179-42F3-AF2E-7DE38A05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91F4-E5D4-435B-9DDE-FB5A6D57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B6BC-9A3E-450D-A75E-1EEB7766F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3FD58-6B2F-4977-B0DA-E26A6884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98ED2-A248-4D8C-BED6-2E1F90CF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253FF-E2C3-4F56-8830-AC0A494C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20647-FC52-4FD6-A777-E123753C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378DD-B343-4D4D-A080-9053BEC1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19E23-9BF1-4CF2-88B2-81BFF190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D8A7B-013E-4FF5-98BA-BAC9EFD5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B11A-D31E-4C5F-905A-D8D4232C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4C50E-EAA2-4748-9A05-0F93864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F9E97-D8CE-4F34-92E1-C2319119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C81EE-5BA9-4B45-9A7D-AF96733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0AEE4-05C9-4A78-B578-0E18C9CF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63C68-A869-443E-92AF-495DAECB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57BB3-D117-44BA-92D7-59C2B489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5ED40-0B38-4741-874C-3E25DBF7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06776-D526-4414-97C3-52486C3E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FDE75-67F6-40CB-82A3-0801E7B3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CA6C4-5C6C-41D1-BDD8-EAE83AF8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1C0F-695F-4FEE-A93D-B3CCB8BD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F517C-5613-480C-8730-35AEFB3F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E2F6A-D83A-4BB7-98A0-D4151E44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CABED-8691-4F6A-9F2D-76BFE87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B14C7-260E-400C-A60C-52C1DD3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5F88C-3EF4-4C85-92AF-519C9CF2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8448E-06D7-4A01-8C65-E84261FF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E1EB6-77AF-45F1-BAEB-3E43DA97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717D-D5A1-4FC9-A6D0-3B4E2A25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436B-EB10-486D-8337-9E1A90A3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38A5-75F2-4F28-A272-5FE7F6DC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2739-9F17-4E10-A453-BFB19AC3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1048-C84B-493E-9806-745B9C65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EB49-AEF9-48A4-9352-A31AAA97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CDC-2143-4F39-89D8-E3FE4FBB3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6070-3075-4EA8-864E-1C208E335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9267-E155-4A57-8206-8BE461CAC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Significación de los Factores Habilitantes e Inhabilitantes para el Mapeo Participa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363320" y="5143680"/>
            <a:ext cx="61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Michael McCall , Giacomo Rambaldi y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05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Externos e Intern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tores externo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líticas internacionales y nacion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líticas destinadas a los derechos de propiedad intelectu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eyes consuetudinarias versus leyes dictadas por un órgano legislativ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ituación de áreas protegid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titudes de funcionarios del gobiern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Barreras del idiom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Externos e Intern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tores intern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laciones entre la comunidad y los agentes externos, el gobierno y las institucion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tructura interna de la comunida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apacidad de las organizaciones comunitari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lfabetización, niveles de educación, género, edad, clase y estructuras de cast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eterminación de Factores Habilitantes e In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habilitantes apoyan al mapeo comunitari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inhabilitantes obstaculizan, reducen o bloquean actividad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eterminación de Factores Habilitantes e In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inhabilitantes tienden a recibir más atención porque requieren mayor análisis y enfoques más perspicac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habilitantes e inhabilitantes pueden ser de naturaleza legal-política, económica o sociocultural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Objetivo claramente definido y compartid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hesión y experiencia comunitari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iderazgo y gobernanza loc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mpetencias técnicas y actitudes human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nocimiento territorial loc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olítica, entornos legales y sociedad civil sustentador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In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eyes que se opongan al mapeo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blemas sociales estructurales en la comunida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lta de confianza en el conocimiento territorial local (CT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ereses en el mantenimiento del </a:t>
            </a:r>
            <a:r>
              <a:rPr b="0" i="1" lang="es-AR" sz="2800" spc="-1" strike="noStrike">
                <a:solidFill>
                  <a:srgbClr val="5f5f5f"/>
                </a:solidFill>
                <a:latin typeface="Arial"/>
              </a:rPr>
              <a:t>status qu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lta de un objetivo claro y una visión compartid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lta de competencia técnic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lta de recursos financier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imitaciones de infraestructu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In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bordar los factores inhabilitantes significa resolverlos o mitigarl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lgunos factores pueden ser “factores aniquiladores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termediarios de tecnología necesitan asistir a las comunidades loca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método para la planificación de la acción es el análisis FOD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Objetivos de la Un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Discutir la significación de los factores habilitantes e inhabilitantes para el mapeo participativo.  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Discutir la relevancia de los marcos legales y políticos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Explicar la función de los factores sociales, económicos, culturales e institucionales a nivel local y comunitario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Describir la planificación de la acción en respuesta a factores habilitantes e inhabilitantes. 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Unidades del Módul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idad M05U01 – Significación de los factores habilitantes e inhabilitantes para el mapeo participativ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idad M05U02 – Marcos legales y polític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idad M05U03 – Factores sociales, económicos, culturales e institucionales a nivel local y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idad M05U04 – Planificación de la acción en respuesta a factores habilitantes e inhabilitant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Contenido de la Unidad M05U01 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troduc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Éxito en el mapeo participa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tores externos e intern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terminación de factores habilitantes e inhabilit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tores habilit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tores inhabilita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Introducción a la Unidad M05U01 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apeo participativo depende de factores sociales, económicos, políticos e institucionales que son externos o internos, habilitantes o inhabilit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inhabilitantes tienden a recibir más atención que los factores habilitantes, porque requieren mayor análisis y enfoques más perspicaces.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Éxito en el Mapeo Participa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riterios para un mapeo participativo exitos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atisfacer a la mayoría de los actor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poyar a los actores desaventajad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o causar un daño innecesario a ningún acto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rear y apoyar iniciativas autónom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lcanzar los resultados pretendid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Éxito en el Mapeo Participa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a condición básica en mapeo participativo es la “claridad de objetivo”. Esto quiere decir, un acuerdo claro sobre el (los) objetivo (s) de la actividad, visión y compromiso a largo plazo, de manera que los objetivos se vuelvan transpare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Éxito en el Mapeo Participa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éxito puede solamente ser medido a largo plaz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lgunos casos de intervenciones comunitarias pueden tener resultados inesperad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mbios pueden resultar en beneficios para algunos, pueden no tener ningún efecto o pueden tener un impacto negativo en otras persona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Externos e Intern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externos se refieren al entorno más ampli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internos pertenecen a una organización, una comunidad, un grupo de personas o personal dedicado a un proyecto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Mike McCall and Janik Granados</dc:creator>
  <dc:description/>
  <cp:keywords>pgis training kit</cp:keywords>
  <dc:language>en-US</dc:language>
  <cp:lastModifiedBy>Valeria</cp:lastModifiedBy>
  <dcterms:modified xsi:type="dcterms:W3CDTF">2010-09-12T16:24:03Z</dcterms:modified>
  <cp:revision>378</cp:revision>
  <dc:subject>M05- Enabling and disabling environments</dc:subject>
  <dc:title>Presentacion - Significación de los Factores Habilitantes e Inhabilitantes para el Mapeo Particip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ntentTypeId">
    <vt:lpwstr>0x0101004D39534AF3E24D47AB55289290746C79</vt:lpwstr>
  </property>
  <property fmtid="{D5CDD505-2E9C-101B-9397-08002B2CF9AE}" pid="7" name="Keywords">
    <vt:lpwstr>pgis, training kit</vt:lpwstr>
  </property>
  <property fmtid="{D5CDD505-2E9C-101B-9397-08002B2CF9AE}" pid="8" name="Slides">
    <vt:lpwstr>1</vt:lpwstr>
  </property>
  <property fmtid="{D5CDD505-2E9C-101B-9397-08002B2CF9AE}" pid="9" name="Subject">
    <vt:lpwstr/>
  </property>
  <property fmtid="{D5CDD505-2E9C-101B-9397-08002B2CF9AE}" pid="10" name="_Author">
    <vt:lpwstr>Giacomo Rambaldi</vt:lpwstr>
  </property>
  <property fmtid="{D5CDD505-2E9C-101B-9397-08002B2CF9AE}" pid="11" name="_Category">
    <vt:lpwstr/>
  </property>
  <property fmtid="{D5CDD505-2E9C-101B-9397-08002B2CF9AE}" pid="12" name="_Comments">
    <vt:lpwstr/>
  </property>
</Properties>
</file>