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5f5f5f"/>
                </a:solidFill>
                <a:latin typeface="Times New Roman"/>
              </a:rPr>
              <a:t>Apoyo a la difusión de buenas prácticas en la generación, la gestión, el análisis y la comunicación de información territor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A2889-B209-4567-90EF-94AD515DDA5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5f5f5f"/>
                </a:solidFill>
                <a:latin typeface="Arial"/>
              </a:rPr>
              <a:t>Apoye la difusión de "buenas prácticas" para la generación, manejo, análisis y comunicación de la informacion espacialSupport the spread of “good practice” in generating, managing, analysing and communicating spati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341A7-11D4-4161-8BD1-643E5D4971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Antes de usar esta presentación, estudiar el Material Informativo para Participantes para esta Unid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5f5f5f"/>
                </a:solidFill>
                <a:latin typeface="Arial"/>
              </a:rPr>
              <a:t>Apoye la difusión de "buenas prácticas" para la generación, manejo, análisis y comunicación de la informacion espacialSupport the spread of “good practice” in generating, managing, analysing and communicating spati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¿Cómo podría afectar a la disponibilidad de recursos del método de asignación que se elig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Header Placeholder 3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D2055-FB46-41F0-BB92-8D3E9BB3C2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5f5f5f"/>
                </a:solidFill>
                <a:latin typeface="Arial"/>
              </a:rPr>
              <a:t>Apoye la difusión de "buenas prácticas" para la generación, manejo, análisis y comunicación de la informacion espacialSupport the spread of “good practice” in generating, managing, analysing and communicating spati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5f5f5f"/>
                </a:solidFill>
                <a:latin typeface="Arial"/>
              </a:rPr>
              <a:t>Apoye la difusión de "buenas prácticas" para la generación, manejo, análisis y comunicación de la informacion espacialSupport the spread of “good practice” in generating, managing, analysing and communicating spati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¿Cómo podrían ambientes diferentes influir en el método de mapeo que prefieren y eligen los miembros de la comunida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Header Placeholder 3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572CB-E2FB-4C86-B9D2-79953036E6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5f5f5f"/>
                </a:solidFill>
                <a:latin typeface="Arial"/>
              </a:rPr>
              <a:t>Apoye la difusión de "buenas prácticas" para la generación, manejo, análisis y comunicación de la informacion espacialSupport the spread of “good practice” in generating, managing, analysing and communicating spati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5f5f5f"/>
                </a:solidFill>
                <a:latin typeface="Arial"/>
              </a:rPr>
              <a:t>Apoye la difusión de "buenas prácticas" para la generación, manejo, análisis y comunicación de la informacion espacialSupport the spread of “good practice” in generating, managing, analysing and communicating spati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5f5f5f"/>
                </a:solidFill>
                <a:latin typeface="Arial"/>
              </a:rPr>
              <a:t>Apoye la difusión de "buenas prácticas" para la generación, manejo, análisis y comunicación de la informacion espacialSupport the spread of “good practice” in generating, managing, analysing and communicating spati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0934B-C7F5-4333-8586-598150EDE0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5f5f5f"/>
                </a:solidFill>
                <a:latin typeface="Arial"/>
              </a:rPr>
              <a:t>Apoye la difusión de "buenas prácticas" para la generación, manejo, análisis y comunicación de la informacion espacialSupport the spread of “good practice” in generating, managing, analysing and communicating spati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Los capacitadores pueden desear que los participantes se involucren en una discusión sobre cómo el mapeo participativo puede servir para empoderar a comunidades enteras.  ¿Qué enfoques sobre mapeo participativo vienen inmediatamente a la mente de los participantes como los más beneficiosos para las comunidades? ¿Por cuales sienten aprensión? ¿Por qué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Header Placeholder 3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C439B-A98A-433E-8FF3-4DFCACEEF2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5f5f5f"/>
                </a:solidFill>
                <a:latin typeface="Arial"/>
              </a:rPr>
              <a:t>Apoye la difusión de "buenas prácticas" para la generación, manejo, análisis y comunicación de la informacion espacialSupport the spread of “good practice” in generating, managing, analysing and communicating spati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¿Cómo podrían estos diferentes objetivos alterar la preferencia y elección de método de mapeo  que realizan los miembros de la comunida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Header Placeholder 3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7EEA0-0724-4989-9EE5-F3F0B6967E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5f5f5f"/>
                </a:solidFill>
                <a:latin typeface="Arial"/>
              </a:rPr>
              <a:t>Apoye la difusión de "buenas prácticas" para la generación, manejo, análisis y comunicación de la informacion espacialSupport the spread of “good practice” in generating, managing, analysing and communicating spati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5f5f5f"/>
                </a:solidFill>
                <a:latin typeface="Arial"/>
              </a:rPr>
              <a:t>Apoye la difusión de "buenas prácticas" para la generación, manejo, análisis y comunicación de la informacion espacialSupport the spread of “good practice” in generating, managing, analysing and communicating spati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5f5f5f"/>
                </a:solidFill>
                <a:latin typeface="Arial"/>
              </a:rPr>
              <a:t>Apoye la difusión de "buenas prácticas" para la generación, manejo, análisis y comunicación de la informacion espacialSupport the spread of “good practice” in generating, managing, analysing and communicating spati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5f5f5f"/>
                </a:solidFill>
                <a:latin typeface="Arial"/>
              </a:rPr>
              <a:t>Apoye la difusión de "buenas prácticas" para la generación, manejo, análisis y comunicación de la informacion espacialSupport the spread of “good practice” in generating, managing, analysing and communicating spati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5f5f5f"/>
                </a:solidFill>
                <a:latin typeface="Arial"/>
              </a:rPr>
              <a:t>Apoye la difusión de "buenas prácticas" para la generación, manejo, análisis y comunicación de la informacion espacialSupport the spread of “good practice” in generating, managing, analysing and communicating spati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BD471-09C8-4908-91A8-36CFECBD0A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5CBBB-171D-45D4-B33B-90B46E9DD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E4D66-7A79-40B0-A9D4-D79224614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82EEE-1B48-4F7B-93D8-6CF0506A96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8E86F3-87E7-4570-A095-EB84D5128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14FA79-7697-4B7C-B2F4-A9C8A9352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2FB62F-48C0-4852-BC20-42B7BB51A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35E808-F8F2-47FB-8016-075C638B3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F84464-AF42-4420-904C-5FCB98BB6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0110B9-2CB3-4668-87B9-19C45CBE1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DFDC40-9A12-4183-9D9A-77FACAC5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E72F4-C94D-4AAE-A03A-A5BA7677F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64D6A5-5DDF-498A-B797-9585D785A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46C2FD-C330-4542-A751-DF95CEBA5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6C5BF3-A382-4D4A-885B-5305C6C12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B19E1C-E488-433D-9FA2-5A681E66D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57DF50-382A-412D-9C9C-34D3EF0C1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52C1D-AE62-41B8-A728-50A094A9F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CB7AF-92E5-4F70-A51B-288E2A971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D1B66-C2FC-432E-BB7C-223064CF7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66494-2A4E-40F1-9471-DD1A889EB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EE520-A455-4779-9F7E-A065DB1B4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6A1E7-0492-43E8-8A08-6198C767B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95B4A-B920-4E74-86DE-84321BD2C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8FC6B-C933-434F-A45F-CAED62D9B9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7"/>
          <p:cNvSpPr/>
          <p:nvPr/>
        </p:nvSpPr>
        <p:spPr>
          <a:xfrm>
            <a:off x="971640" y="28260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6600"/>
                </a:solidFill>
                <a:latin typeface="Arial"/>
              </a:rPr>
              <a:t>Apoyo a la difusión de buenas prácticas en la generación, la gestión, el análisis y la comunicación de información territo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0" descr="cc_license_by-nc-sa"/>
          <p:cNvPicPr/>
          <p:nvPr/>
        </p:nvPicPr>
        <p:blipFill>
          <a:blip r:embed="rId2"/>
          <a:stretch/>
        </p:blipFill>
        <p:spPr>
          <a:xfrm>
            <a:off x="4145040" y="638172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4B8B0-BC12-4B6C-9727-B701A6183D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815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Factores que Influyen en la Selección de un Método de Mapeo</a:t>
            </a:r>
            <a:endParaRPr b="0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1768320" y="4869000"/>
            <a:ext cx="57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69696"/>
                </a:solidFill>
                <a:latin typeface="Arial"/>
              </a:rPr>
              <a:t>Por: Jon Corbett, Kasondra White y Giacomo Rambal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617400" y="628164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Unidad: M06U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cc_license_by-nc-sa"/>
          <p:cNvPicPr/>
          <p:nvPr/>
        </p:nvPicPr>
        <p:blipFill>
          <a:blip r:embed="rId1"/>
          <a:stretch/>
        </p:blipFill>
        <p:spPr>
          <a:xfrm>
            <a:off x="4151160" y="6375240"/>
            <a:ext cx="83844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cc3300"/>
                </a:solidFill>
                <a:latin typeface="Arial"/>
              </a:rPr>
              <a:t>Recurso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Capacidad de la comunidad: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</a:rPr>
              <a:t>Tiempo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</a:rPr>
              <a:t>Habilidades especializadas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</a:rPr>
              <a:t>Intermediarios designados por la comunidad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Financiación: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</a:rPr>
              <a:t>¿Cuánto disponibilidad hay?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</a:rPr>
              <a:t>Costo de métodos con relación a otros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cc3300"/>
                </a:solidFill>
                <a:latin typeface="Arial"/>
              </a:rPr>
              <a:t>Recurso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Conocimiento técnico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Habilidades técnicas especializadas dentro de la comunidad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¿Se necesitan intermediarios de tecnología?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Financiamiento para la capacitación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Tiempo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¿Cuánto se necesita?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Tiempo de capacitación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cc3300"/>
                </a:solidFill>
                <a:latin typeface="Arial"/>
              </a:rPr>
              <a:t>Condiciones Existent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5f5f5f"/>
                </a:solidFill>
                <a:latin typeface="Arial"/>
              </a:rPr>
              <a:t>Marcos legales y normativos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5f5f5f"/>
                </a:solidFill>
                <a:latin typeface="Arial"/>
              </a:rPr>
              <a:t>Desactivación de las normas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5f5f5f"/>
                </a:solidFill>
                <a:latin typeface="Arial"/>
              </a:rPr>
              <a:t>Desconexión entre las instituciones formales y tradicionales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5f5f5f"/>
                </a:solidFill>
                <a:latin typeface="Arial"/>
              </a:rPr>
              <a:t>Clima político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5f5f5f"/>
                </a:solidFill>
                <a:latin typeface="Arial"/>
              </a:rPr>
              <a:t>Inclusión de tomadores de decisiones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5f5f5f"/>
                </a:solidFill>
                <a:latin typeface="Arial"/>
              </a:rPr>
              <a:t>Acceso limitado a la información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5f5f5f"/>
                </a:solidFill>
                <a:latin typeface="Arial"/>
              </a:rPr>
              <a:t>Peligros de mostrar información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cc3300"/>
                </a:solidFill>
                <a:latin typeface="Arial"/>
              </a:rPr>
              <a:t>Condiciones Existent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5f5f5f"/>
                </a:solidFill>
                <a:latin typeface="Arial"/>
              </a:rPr>
              <a:t>Escenario Cultural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5f5f5f"/>
                </a:solidFill>
                <a:latin typeface="Arial"/>
              </a:rPr>
              <a:t>Las creencias o prácticas pudieran afectar a la idoneidad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5f5f5f"/>
                </a:solidFill>
                <a:latin typeface="Arial"/>
              </a:rPr>
              <a:t>Ambiente Biofísico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5f5f5f"/>
                </a:solidFill>
                <a:latin typeface="Arial"/>
              </a:rPr>
              <a:t>Características físicas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5f5f5f"/>
                </a:solidFill>
                <a:latin typeface="Arial"/>
              </a:rPr>
              <a:t>Infraestructura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5f5f5f"/>
                </a:solidFill>
                <a:latin typeface="Arial"/>
              </a:rPr>
              <a:t>Energía eléctrica y conectividad a Internet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5f5f5f"/>
                </a:solidFill>
                <a:latin typeface="Arial"/>
              </a:rPr>
              <a:t>Disponibilidad de recursos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cc3300"/>
                </a:solidFill>
                <a:latin typeface="Arial"/>
              </a:rPr>
              <a:t>Condiciones Existent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915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5f5f5f"/>
                </a:solidFill>
                <a:latin typeface="Arial"/>
              </a:rPr>
              <a:t>Situación relacionada con la paz y el orden: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5f5f5f"/>
                </a:solidFill>
                <a:latin typeface="Arial"/>
              </a:rPr>
              <a:t>El mapeo podría interpretarse como una amenaza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5f5f5f"/>
                </a:solidFill>
                <a:latin typeface="Arial"/>
              </a:rPr>
              <a:t>Mapeo en zonas de alto riesgo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5f5f5f"/>
                </a:solidFill>
                <a:latin typeface="Arial"/>
              </a:rPr>
              <a:t>Accesibilidad y extensión de las áreas a ser mapeadas: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5f5f5f"/>
                </a:solidFill>
                <a:latin typeface="Arial"/>
              </a:rPr>
              <a:t>Acceso, seguridad y riesgos para la salud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5f5f5f"/>
                </a:solidFill>
                <a:latin typeface="Arial"/>
              </a:rPr>
              <a:t>Área a ser mapeada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382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Aft>
                <a:spcPts val="1225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Principales métodos disponible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Aft>
                <a:spcPts val="1225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¿Cómo seleccionar métodos de mapeo?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Aft>
                <a:spcPts val="1225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Cuál es el objetivo del mapa?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95" name="Picture 6" descr=""/>
          <p:cNvPicPr/>
          <p:nvPr/>
        </p:nvPicPr>
        <p:blipFill>
          <a:blip r:embed="rId1"/>
          <a:stretch/>
        </p:blipFill>
        <p:spPr>
          <a:xfrm>
            <a:off x="3809880" y="1127160"/>
            <a:ext cx="5273640" cy="54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Escoger el Método Adecuado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 elección del método debe provenir desde dentro de la comunidad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Proceso de selección abierto e inclusivo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 elección del método se verá influida por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Objetivo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Recursos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Medio ambiente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cc3300"/>
                </a:solidFill>
                <a:latin typeface="Arial"/>
              </a:rPr>
              <a:t>Objetivo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5f5f5f"/>
                </a:solidFill>
                <a:latin typeface="Arial"/>
              </a:rPr>
              <a:t>Transmisión de información espacial a las agencias externas: 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5f5f5f"/>
                </a:solidFill>
                <a:latin typeface="Arial"/>
              </a:rPr>
              <a:t>¿Cómo interactúan las comunidades con las tierras tradicionales?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5f5f5f"/>
                </a:solidFill>
                <a:latin typeface="Arial"/>
              </a:rPr>
              <a:t>Los mapas son de fácil acceso.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5f5f5f"/>
                </a:solidFill>
                <a:latin typeface="Arial"/>
              </a:rPr>
              <a:t>Comprensibles para todos los públicos.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5f5f5f"/>
                </a:solidFill>
                <a:latin typeface="Arial"/>
              </a:rPr>
              <a:t>Registro y archivo de los conocimientos locales.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5f5f5f"/>
                </a:solidFill>
                <a:latin typeface="Arial"/>
              </a:rPr>
              <a:t>Útil para recopilar y conservar las historias culturales: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5f5f5f"/>
                </a:solidFill>
                <a:latin typeface="Arial"/>
              </a:rPr>
              <a:t>Registra el conocimiento de miembros de mayor edad de la comunidad. 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5f5f5f"/>
                </a:solidFill>
                <a:latin typeface="Arial"/>
              </a:rPr>
              <a:t>Facilita la construcción de la identidad.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cc3300"/>
                </a:solidFill>
                <a:latin typeface="Arial"/>
              </a:rPr>
              <a:t>Objetivo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5f5f5f"/>
                </a:solidFill>
                <a:latin typeface="Arial"/>
              </a:rPr>
              <a:t>Apoyo a la libre determinación, a los reclamos de tierras y a la reasignación de tierras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5f5f5f"/>
                </a:solidFill>
                <a:latin typeface="Arial"/>
              </a:rPr>
              <a:t>Conserva historias culturales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5f5f5f"/>
                </a:solidFill>
                <a:latin typeface="Arial"/>
              </a:rPr>
              <a:t>Apoya el  dominio ancestral y el reclamo de</a:t>
            </a:r>
            <a:r>
              <a:rPr b="0" lang="es-PE" sz="40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s-PE" sz="2400" spc="-1" strike="noStrike">
                <a:solidFill>
                  <a:srgbClr val="5f5f5f"/>
                </a:solidFill>
                <a:latin typeface="Arial"/>
              </a:rPr>
              <a:t>tenencia. 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5f5f5f"/>
                </a:solidFill>
                <a:latin typeface="Arial"/>
              </a:rPr>
              <a:t>Desarrollo de la investigación colaborativa: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5f5f5f"/>
                </a:solidFill>
                <a:latin typeface="Arial"/>
              </a:rPr>
              <a:t>Puede ser colaborativa y constructiva. 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5f5f5f"/>
                </a:solidFill>
                <a:latin typeface="Arial"/>
              </a:rPr>
              <a:t>Puede abordar enfoques que no son consistentes con la colaboración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cc3300"/>
                </a:solidFill>
                <a:latin typeface="Arial"/>
              </a:rPr>
              <a:t>Objetivo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5f5f5f"/>
                </a:solidFill>
                <a:latin typeface="Arial"/>
              </a:rPr>
              <a:t>Ayudar a las comunidades en la planificación del uso de tierras y el manejo de recursos: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5f5f5f"/>
                </a:solidFill>
                <a:latin typeface="Arial"/>
              </a:rPr>
              <a:t>Hace visible el conocimiento de la comunidad. 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5f5f5f"/>
                </a:solidFill>
                <a:latin typeface="Arial"/>
              </a:rPr>
              <a:t>Puede ser utilizado para la identificación de las características naturales.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5f5f5f"/>
                </a:solidFill>
                <a:latin typeface="Arial"/>
              </a:rPr>
              <a:t>Comunica los planes de gestión deseados.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5f5f5f"/>
                </a:solidFill>
                <a:latin typeface="Arial"/>
              </a:rPr>
              <a:t>Salvaguardar la biodiversidad y la diversidad biocultural: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5f5f5f"/>
                </a:solidFill>
                <a:latin typeface="Arial"/>
              </a:rPr>
              <a:t>Comprender la diversidad de las especies y del paisaje.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5f5f5f"/>
                </a:solidFill>
                <a:latin typeface="Arial"/>
              </a:rPr>
              <a:t>Apoya la delimitación área protegida.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cc3300"/>
                </a:solidFill>
                <a:latin typeface="Arial"/>
              </a:rPr>
              <a:t>Objetivo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9528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5f5f5f"/>
                </a:solidFill>
                <a:latin typeface="Arial"/>
              </a:rPr>
              <a:t>Permitir que las comunidades puedan promover cambios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5f5f5f"/>
                </a:solidFill>
                <a:latin typeface="Arial"/>
              </a:rPr>
              <a:t>Refuerza la legitimidad de los reclamos de tierra.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5f5f5f"/>
                </a:solidFill>
                <a:latin typeface="Arial"/>
              </a:rPr>
              <a:t>Acrecentar la capacidad dentro de las comunidades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5f5f5f"/>
                </a:solidFill>
                <a:latin typeface="Arial"/>
              </a:rPr>
              <a:t>Reúne a los miembros de la comunidad. 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5f5f5f"/>
                </a:solidFill>
                <a:latin typeface="Arial"/>
              </a:rPr>
              <a:t>Construye la cohesión de la comunidad.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5f5f5f"/>
                </a:solidFill>
                <a:latin typeface="Arial"/>
              </a:rPr>
              <a:t>Ayuda a reconocer los recursos y las preocupaciones.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5f5f5f"/>
                </a:solidFill>
                <a:latin typeface="Arial"/>
              </a:rPr>
              <a:t>Sensibiliza la conciencia sobre los problemas locales.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cc3300"/>
                </a:solidFill>
                <a:latin typeface="Arial"/>
              </a:rPr>
              <a:t>Objetivo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5f5f5f"/>
                </a:solidFill>
                <a:latin typeface="Arial"/>
              </a:rPr>
              <a:t>Manejar y aliviar los conflictos territoriales: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5f5f5f"/>
                </a:solidFill>
                <a:latin typeface="Arial"/>
              </a:rPr>
              <a:t>Se utiliza para reducir los conflictos entre las comunidades y gente de fuera, así como local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5f5f5f"/>
                </a:solidFill>
                <a:latin typeface="Arial"/>
              </a:rPr>
              <a:t>Proporciona una representación gráfica de los conflictos. 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5f5f5f"/>
                </a:solidFill>
                <a:latin typeface="Arial"/>
              </a:rPr>
              <a:t>Apoya la buena </a:t>
            </a:r>
            <a:r>
              <a:rPr b="0" lang="en-CA" sz="2400" spc="-1" strike="noStrike">
                <a:solidFill>
                  <a:srgbClr val="5f5f5f"/>
                </a:solidFill>
                <a:latin typeface="Arial"/>
              </a:rPr>
              <a:t>gobernanza. 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5f5f5f"/>
                </a:solidFill>
                <a:latin typeface="Arial"/>
              </a:rPr>
              <a:t>Se utiliza para solicitar la propiedad de tierras reclamadas por el Estado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5f5f5f"/>
                </a:solidFill>
                <a:latin typeface="Arial"/>
              </a:rPr>
              <a:t>Herramienta para solicitar el reconocimiento y la inclusión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5f5f5f"/>
                </a:solidFill>
                <a:latin typeface="Arial"/>
              </a:rPr>
              <a:t>Contribuye a que los gobiernos asuman su responsabilidad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cc3300"/>
                </a:solidFill>
                <a:latin typeface="Arial"/>
              </a:rPr>
              <a:t>Objetivo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5f5f5f"/>
                </a:solidFill>
                <a:latin typeface="Arial"/>
              </a:rPr>
              <a:t>La sensibilización y la asistencia a la educación y el aprendizaje social: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5f5f5f"/>
                </a:solidFill>
                <a:latin typeface="Arial"/>
              </a:rPr>
              <a:t>Presenta un lenguaje de comprensión general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5f5f5f"/>
                </a:solidFill>
                <a:latin typeface="Arial"/>
              </a:rPr>
              <a:t>Se comunica atravesando las barreras del idioma, edad, educación o género. 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7T05:28:43Z</dcterms:created>
  <dc:creator>Kasondra</dc:creator>
  <dc:description/>
  <cp:keywords>pgis training kit</cp:keywords>
  <dc:language>en-US</dc:language>
  <cp:lastModifiedBy>Valeria</cp:lastModifiedBy>
  <dcterms:modified xsi:type="dcterms:W3CDTF">2010-07-08T17:53:27Z</dcterms:modified>
  <cp:revision>71</cp:revision>
  <dc:subject/>
  <dc:title>Presentación - Factores que Influyen en la Selección de un Método de Mape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Level">
    <vt:lpwstr/>
  </property>
  <property fmtid="{D5CDD505-2E9C-101B-9397-08002B2CF9AE}" pid="3" name="Assigned To">
    <vt:lpwstr/>
  </property>
  <property fmtid="{D5CDD505-2E9C-101B-9397-08002B2CF9AE}" pid="4" name="Categories">
    <vt:lpwstr/>
  </property>
  <property fmtid="{D5CDD505-2E9C-101B-9397-08002B2CF9AE}" pid="5" name="ContentType">
    <vt:lpwstr>Document</vt:lpwstr>
  </property>
  <property fmtid="{D5CDD505-2E9C-101B-9397-08002B2CF9AE}" pid="6" name="Keywords">
    <vt:lpwstr>pgis, training kit</vt:lpwstr>
  </property>
  <property fmtid="{D5CDD505-2E9C-101B-9397-08002B2CF9AE}" pid="7" name="Slides">
    <vt:lpwstr>1</vt:lpwstr>
  </property>
  <property fmtid="{D5CDD505-2E9C-101B-9397-08002B2CF9AE}" pid="8" name="Subject">
    <vt:lpwstr/>
  </property>
  <property fmtid="{D5CDD505-2E9C-101B-9397-08002B2CF9AE}" pid="9" name="_Author">
    <vt:lpwstr>Giacomo Rambaldi</vt:lpwstr>
  </property>
  <property fmtid="{D5CDD505-2E9C-101B-9397-08002B2CF9AE}" pid="10" name="_Category">
    <vt:lpwstr/>
  </property>
  <property fmtid="{D5CDD505-2E9C-101B-9397-08002B2CF9AE}" pid="11" name="_Comments">
    <vt:lpwstr/>
  </property>
</Properties>
</file>