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66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F677-BE7A-4961-8D42-6C055797A5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AC05-C0FB-40AB-98BA-1EB0FE99E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udiar el Material Informativo para el Participante antes de usar est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FAF3-5107-433A-83A1-08EC72C3A2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2037-BB6F-4747-B615-9F11276308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F82F-B781-4F94-A648-B09F23B5C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CDA0-5B0F-4A23-9BCF-E3BA18983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6FC-E3A8-461E-A062-86A20D5FF6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8308-698F-4CD3-89C9-77A308BB3E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E267-37CD-4482-BA64-E156627044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5D51-FF40-41CB-9DBD-A19581836B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67CE-11F4-44AB-95DA-6044C59B69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B342-C171-4730-9841-194E06CA2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E25C-0D18-433B-9AC5-3F74119A6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944A-4F17-4E03-9373-4FE402E4A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B249-CB23-477F-A55D-BFF1BD1EE8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3CF5-58F6-45DF-8738-6B810AC29E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EBCB-2612-48EB-AD18-C7C8FD578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2710-D6F2-418A-A8AC-14E7D9D3EA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8D4C-16A5-47E2-AE5C-8499F422E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B1EC-1E70-44E4-9594-E2B6BCCED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F9C-2FC9-4154-9B98-3C509D3A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613-69BE-4082-A41D-AC0F10D7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39D-7054-4773-A868-6748C6C2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B59-7049-4DDD-A2EA-ED4A8F84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3517C-7941-4C2C-ADF5-2DFE2C1E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9F279-8F58-47CE-8E2B-86C26DAC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F0467-5D53-4B71-BFDD-21FF34C4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0C685-300A-4950-AD2A-60E06545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CD4FC-ACAB-4BB5-A07E-4D13DEE4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E66E6-AC55-4F03-AFA7-D212D56F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81024-97BC-4A9A-AD23-DD38D9D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2F5-EF69-4F62-9E89-682BEBDE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A0C94-61CA-4D25-BA41-03FB4308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53727-7DED-40D0-BBE8-EB24C3AD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4913B-0006-45B5-BBAA-9A66EADB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201F1-59E9-4E31-8ACF-9A2C5E16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1DFB9-15FD-4E56-A8D0-92EB49D5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C59-614E-4A55-8795-27A7BBC2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0E3-40FA-4816-B1B2-33A05D5C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C42-2720-4C2D-A1F4-C7EC531A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787-AA41-4FEC-A3E0-2295D298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A94-7E0E-4F82-8072-0D200938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29C-A28C-4632-B8CF-9B87B0F0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CD0-2430-4203-8D41-C2BFACD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87A1-4F39-4E64-AD7B-5323A42743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5957-1902-405B-B392-3370392D79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erpretación de Fotografías Aéreas e Imágenes Satelit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438720" y="515772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J.Verplanke, I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: M1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forma caracteriza la proyección bidimensional y la altura de un objet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amaño puede ser considerado en sentido relativo o absolut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altura es importante para distinguir entre diferentes tipos de vegetación, tipos de construcción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ubicación/asociación se refiere a la situación en el terreno o con relación a sus alrededor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ono o matiz pueden ser definidos para un único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xtura se define para un grupo de píxeles adyacentes, no para un único píxe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demás elementos de interpretación se relacionan con objetos individuales o con una combinación de objet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proceso de interpretación involucra la delineación de áreas que parecen similares y que también son diferentes a otras área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uego de establecer las características en el terreno, pueden construirse “claves de interpretación”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n base a estas claves, puede hacerse una interpretación de características; éstas pueden ser descritas como elementos de interpre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Mape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545" t="560" r="724" b="0"/>
          <a:stretch/>
        </p:blipFill>
        <p:spPr>
          <a:xfrm>
            <a:off x="539640" y="1627200"/>
            <a:ext cx="74660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scal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Hay un límite para lo que puede dibujars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la práctica, los polígonos menores a 5 x 5 mm no deberían ser dibujados: la “menor unidad permitida”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scala de la (s) imagen (imágenes) por lo tanto limita la celda de interpretación en el terren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Trabajo de Ca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mapas deberían reflejar lo que hay realmente en el terren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visitas de campo observan lo que hay en la realida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urante el trabajo de campo, se verifica la ubicación de lími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e recogen datos sobre características que no pueden obtenerse de la teledetec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al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lidad de la interpretación de imágenes depende 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 experiencia profesional de los intérpretes de fotografí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imágenes usadas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directrices de interpre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os tres puntos aseguran la replicabilidad del trabaj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cc3300"/>
                </a:solidFill>
                <a:latin typeface="Arial"/>
              </a:rPr>
              <a:t>Replicabilidad 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replicabilidad se refiere al grado de correspondencia obtenida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r diferentes personas para la misma área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or la misma persona para la misma área en diferentes instanci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plicabilidad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4" name="Picture 4" descr="fig11"/>
          <p:cNvPicPr/>
          <p:nvPr/>
        </p:nvPicPr>
        <p:blipFill>
          <a:blip r:embed="rId1"/>
          <a:stretch/>
        </p:blipFill>
        <p:spPr>
          <a:xfrm>
            <a:off x="468360" y="1709640"/>
            <a:ext cx="82072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erpretación de Imáge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Cómo se extrae la información de las imágene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nterpretación visual de la imagen (en esta Unidad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cesamiento semi-automático mediante computado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erpretación de Imáge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nterpretación visual se basa en relacionar colores y patrones con características del mundo re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imágenes pueden ser mostradas en el monitor de una computadora o en formato impres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mapeo traslada los hallazg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ncipios Bás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nálisis de una imagen se hace generalmente mediante una combinación 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conocimiento espontáneo” y directo.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Uso de varias claves para llegar a conclusiones mediante un proceso de razonamiento, esto es, “inferencia lógica”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ncipios Bás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reconocimiento espontáneo se refiere a la identificación de objetos o características a primera vist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3" name="Picture 7" descr="Central Pivot.jpg"/>
          <p:cNvPicPr/>
          <p:nvPr/>
        </p:nvPicPr>
        <p:blipFill>
          <a:blip r:embed="rId1"/>
          <a:srcRect l="32182" t="0" r="0" b="0"/>
          <a:stretch/>
        </p:blipFill>
        <p:spPr>
          <a:xfrm>
            <a:off x="4214880" y="1571760"/>
            <a:ext cx="437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incipios Básic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nferencia lógica significa que el intérprete aplica razonamient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6" name="Picture 4" descr="fig11"/>
          <p:cNvPicPr/>
          <p:nvPr/>
        </p:nvPicPr>
        <p:blipFill>
          <a:blip r:embed="rId1"/>
          <a:srcRect l="0" t="0" r="45347" b="0"/>
          <a:stretch/>
        </p:blipFill>
        <p:spPr>
          <a:xfrm>
            <a:off x="4143240" y="1571760"/>
            <a:ext cx="455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Siete elementos de interpretación proporcionan directrices para reconocer determinados objetos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Tono/matiz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Textur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Patr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Form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Tamañ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ltura/elevac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Ubicación/asociac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ono es el brillo relativo en una imagen en blanco y negro. El matiz se refiere al espacio de colo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variaciones de tono se relacionan con la cantidad de luz reflejada (o emitida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Las variaciones de matiz se relacionan con características espectrale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ojo humano tiene una mayor sensibilidad para el matiz (10.000 colores) que para el tono (200 niveles de gris)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lement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textura se relaciona con la frecuencia de cambio de tono y puede ser descrita como áspera o fina, suave o rugosa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patrón se refiere a la disposición territorial: concéntrica, radial, en forma de damero, ríos con sus afluentes, patrones relacionados con la erosión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Jeroen Verplanke</dc:creator>
  <dc:description/>
  <cp:keywords>pgis training kit</cp:keywords>
  <dc:language>en-US</dc:language>
  <cp:lastModifiedBy>Valeria</cp:lastModifiedBy>
  <dcterms:modified xsi:type="dcterms:W3CDTF">2010-08-22T20:07:51Z</dcterms:modified>
  <cp:revision>71</cp:revision>
  <dc:subject/>
  <dc:title>Presentacion 1 - Interpretación de fotografías aéreas e imágenes satelit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