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666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5f5f5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7221-85A8-4576-9BB5-A36D6F95C1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45DD-75B2-423C-BD77-7DD68A3B2F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utilizar esta presentación, estudiar el Ejercicio No.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6C7-7F9C-447B-BF40-AAEBB981E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DE81-14B2-4F7A-81BC-7E799DA7D0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B83C-B53F-4FB4-8A95-61D11FFC95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289F-3B87-45AC-A147-FBBB16407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2EC5-F8AE-4C07-A1E6-10DA7CE20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A36B-7AD3-4FE2-AA32-E7F2122682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8444-C220-4FD2-AF7F-4F834B48E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E7C2-A77F-40A1-82F7-7F44A70E35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7DA4-A54F-416E-B959-8F5EF1853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A384-A95D-47D3-A5B5-4B2BB0501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5DD0-7B98-4762-83F2-697B0F6DB6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Header Placeholder 3"/>
          <p:cNvSpPr/>
          <p:nvPr/>
        </p:nvSpPr>
        <p:spPr>
          <a:xfrm>
            <a:off x="0" y="0"/>
            <a:ext cx="666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f5f5f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A35B-663C-4D5B-996F-476F73CB2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1A11-A7CC-4467-8BF1-1ACA8E361D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FDD9-33E8-4E43-8639-2C787387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674E-BAAD-4533-9C2D-AE392226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96DA8-F723-461C-B9EA-72431E91F3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A94EB-BD02-4DC1-9C0F-7624C1F7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BCB2A-514A-459A-B55E-3B780FE6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98AC9-7804-4CF8-8ABE-71381DAA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ED3C3-8131-48AF-BC03-BFA66E04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B31CC-1CA6-468E-8531-25369C78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00067-552C-4DC1-9686-2814A448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CEBA7-AEE5-4737-BC61-35D7CB15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322F-41D7-4C09-BDAD-61D9BE7C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4020C-1F5B-444F-B193-8DF27567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F6EF4-0836-4EF9-BADE-F28BC305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2BE25-303B-482B-8D17-855F2465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08B60-B521-4CE5-9D62-F1AE801D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BFFE4-B2FF-4271-A666-30E452EB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9558-8D51-4A64-B652-C5F75F14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8975-A0D2-4F8C-AB98-B3F8B6A0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CE94-F26D-4658-9DEA-6E7473D4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9E38-B780-496A-8CAB-0774ABD7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0AC5-7EA8-48E7-AA5E-74C62419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C7EB0-EFC8-46DE-8211-D0748C7B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4184-1246-4611-9D1E-7493FF91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E07B-A8E0-49A0-A1A0-306201E83E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CCB6-67A1-41AD-B66E-CD64A57248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16200"/>
            <a:ext cx="7772400" cy="18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jercicio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No.1: 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eo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de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bertura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 de la Tierra con Fotografías Aére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385080" y="55008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Jeroen Verpla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3: Interpre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nsejo práctico: Comenzar con las unidades más clara (más fáciles) en primer luga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opcional: Relevamiento de Ca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objetivo del relevamiento de campo es observar la diferentes unidades de interpretación en las fotografías aéreas en la realida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r si la cobertura de la tierra y el uso de la tierra son consistentemente las mismas dentro de una unidad de interpret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opcional: Relevamiento de Ca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aluar la cobertura de la tierra y el uso de la tierra en varios lugares en cada unida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iempre asegurarse la participación de los residentes locales para que lo asistan para orientarse en el áre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Tarea opcional: Relevamiento de Camp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8" name="Picture 4" descr="Bild2"/>
          <p:cNvPicPr/>
          <p:nvPr/>
        </p:nvPicPr>
        <p:blipFill>
          <a:blip r:embed="rId1"/>
          <a:stretch/>
        </p:blipFill>
        <p:spPr>
          <a:xfrm>
            <a:off x="755640" y="1268280"/>
            <a:ext cx="4849920" cy="4926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Bild2"/>
          <p:cNvPicPr/>
          <p:nvPr/>
        </p:nvPicPr>
        <p:blipFill>
          <a:blip r:embed="rId2"/>
          <a:stretch/>
        </p:blipFill>
        <p:spPr>
          <a:xfrm>
            <a:off x="755640" y="1281240"/>
            <a:ext cx="4849920" cy="4925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5718240" y="3963960"/>
            <a:ext cx="310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</a:rPr>
              <a:t>Tabla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</a:rPr>
              <a:t>Planilla de observación de datos de campo para cobertura de la tierra y uso de la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4: Interpretación de Imágenes Multitempor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-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113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2056680" y="5395680"/>
            <a:ext cx="49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6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Wesseler1969"/>
          <p:cNvPicPr/>
          <p:nvPr/>
        </p:nvPicPr>
        <p:blipFill>
          <a:blip r:embed="rId1"/>
          <a:stretch/>
        </p:blipFill>
        <p:spPr>
          <a:xfrm>
            <a:off x="1092240" y="1989000"/>
            <a:ext cx="3063960" cy="345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Wesseler2009"/>
          <p:cNvPicPr/>
          <p:nvPr/>
        </p:nvPicPr>
        <p:blipFill>
          <a:blip r:embed="rId2"/>
          <a:stretch/>
        </p:blipFill>
        <p:spPr>
          <a:xfrm>
            <a:off x="5045040" y="1989000"/>
            <a:ext cx="2975040" cy="3456000"/>
          </a:xfrm>
          <a:prstGeom prst="rect">
            <a:avLst/>
          </a:prstGeom>
          <a:ln w="0">
            <a:noFill/>
          </a:ln>
        </p:spPr>
      </p:pic>
      <p:sp>
        <p:nvSpPr>
          <p:cNvPr id="167" name="Line 14"/>
          <p:cNvSpPr/>
          <p:nvPr/>
        </p:nvSpPr>
        <p:spPr>
          <a:xfrm flipH="1" flipV="1">
            <a:off x="2916360" y="2707920"/>
            <a:ext cx="71280" cy="33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3"/>
          <p:cNvSpPr/>
          <p:nvPr/>
        </p:nvSpPr>
        <p:spPr>
          <a:xfrm flipH="1" flipV="1">
            <a:off x="7651440" y="3557160"/>
            <a:ext cx="88920" cy="374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1030320" y="57351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</a:rPr>
              <a:t>Figura 5: Abundancia de cambio en la cobertura de la tierra en 40 años; una nueva área urbana en los Países B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4: Interpretación de Imágenes Multitempor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-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113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055600" y="4906440"/>
            <a:ext cx="474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8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 flipH="1" flipV="1">
            <a:off x="2916360" y="2707920"/>
            <a:ext cx="71280" cy="336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 flipH="1" flipV="1">
            <a:off x="7651440" y="3557160"/>
            <a:ext cx="88920" cy="374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030320" y="5238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Arial"/>
              </a:rPr>
              <a:t>Figura 6: Cambio en la cobertura de la tierra en 10 años en un área urbana en los Países Bajos (es difícil de ver las diferenci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Horst1989"/>
          <p:cNvPicPr/>
          <p:nvPr/>
        </p:nvPicPr>
        <p:blipFill>
          <a:blip r:embed="rId1"/>
          <a:stretch/>
        </p:blipFill>
        <p:spPr>
          <a:xfrm>
            <a:off x="1071720" y="1989000"/>
            <a:ext cx="3068640" cy="2927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Horst1998"/>
          <p:cNvPicPr/>
          <p:nvPr/>
        </p:nvPicPr>
        <p:blipFill>
          <a:blip r:embed="rId2"/>
          <a:stretch/>
        </p:blipFill>
        <p:spPr>
          <a:xfrm>
            <a:off x="4824360" y="1989000"/>
            <a:ext cx="317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acticar los conceptos básicos de mapeo de cobertura de la tierra y uso de la tierra en base a interpretación de fotografías aéreas y realización de una interpretación preliminar de la leyenda en base a las características de la fotografí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uatro tareas y un relevamiento de campo opcional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area 1: Investigación de una fotografía aére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area 2: Leyenda prelimina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area 3: Interpret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area opcional: Relevamiento de camp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area 4: Interpretación de imágenes multitemporales para cambio de uso de la tierr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1: Investigación de una Fotografía Aére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8" name="Picture 5" descr="Horst1989 zoom"/>
          <p:cNvPicPr/>
          <p:nvPr/>
        </p:nvPicPr>
        <p:blipFill>
          <a:blip r:embed="rId1"/>
          <a:stretch/>
        </p:blipFill>
        <p:spPr>
          <a:xfrm>
            <a:off x="971640" y="1701720"/>
            <a:ext cx="4392360" cy="429264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4"/>
          <p:cNvGrpSpPr/>
          <p:nvPr/>
        </p:nvGrpSpPr>
        <p:grpSpPr>
          <a:xfrm>
            <a:off x="2124000" y="2494080"/>
            <a:ext cx="3240000" cy="2736360"/>
            <a:chOff x="2124000" y="2494080"/>
            <a:chExt cx="3240000" cy="2736360"/>
          </a:xfrm>
        </p:grpSpPr>
        <p:sp>
          <p:nvSpPr>
            <p:cNvPr id="100" name="Oval 20"/>
            <p:cNvSpPr/>
            <p:nvPr/>
          </p:nvSpPr>
          <p:spPr>
            <a:xfrm>
              <a:off x="3008880" y="249408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9"/>
            <p:cNvSpPr/>
            <p:nvPr/>
          </p:nvSpPr>
          <p:spPr>
            <a:xfrm>
              <a:off x="2124000" y="428400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8"/>
            <p:cNvSpPr/>
            <p:nvPr/>
          </p:nvSpPr>
          <p:spPr>
            <a:xfrm>
              <a:off x="4381200" y="407052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7"/>
            <p:cNvSpPr/>
            <p:nvPr/>
          </p:nvSpPr>
          <p:spPr>
            <a:xfrm>
              <a:off x="3567960" y="274140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6"/>
            <p:cNvSpPr/>
            <p:nvPr/>
          </p:nvSpPr>
          <p:spPr>
            <a:xfrm>
              <a:off x="2140920" y="4571280"/>
              <a:ext cx="35280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4814280" y="412776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29"/>
          <p:cNvSpPr/>
          <p:nvPr/>
        </p:nvSpPr>
        <p:spPr>
          <a:xfrm>
            <a:off x="5724360" y="472068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a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Detalle de fotografía </a:t>
            </a:r>
            <a:r>
              <a:rPr b="1" i="1" lang="es-AR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Horst1989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2: Leyenda Prelimina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-47160" y="1309680"/>
            <a:ext cx="6491520" cy="5688720"/>
            <a:chOff x="-47160" y="1309680"/>
            <a:chExt cx="6491520" cy="5688720"/>
          </a:xfrm>
        </p:grpSpPr>
        <p:pic>
          <p:nvPicPr>
            <p:cNvPr id="109" name="Picture 20" descr="Horst1989 zoom"/>
            <p:cNvPicPr/>
            <p:nvPr/>
          </p:nvPicPr>
          <p:blipFill>
            <a:blip r:embed="rId1"/>
            <a:stretch/>
          </p:blipFill>
          <p:spPr>
            <a:xfrm>
              <a:off x="1229760" y="2164680"/>
              <a:ext cx="3875040" cy="379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42"/>
            <p:cNvGrpSpPr/>
            <p:nvPr/>
          </p:nvGrpSpPr>
          <p:grpSpPr>
            <a:xfrm>
              <a:off x="1060200" y="1987560"/>
              <a:ext cx="356040" cy="351360"/>
              <a:chOff x="1060200" y="1987560"/>
              <a:chExt cx="356040" cy="351360"/>
            </a:xfrm>
          </p:grpSpPr>
          <p:sp>
            <p:nvSpPr>
              <p:cNvPr id="111" name="Oval 45"/>
              <p:cNvSpPr/>
              <p:nvPr/>
            </p:nvSpPr>
            <p:spPr>
              <a:xfrm>
                <a:off x="1060200" y="198792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2" name="AutoShape 44"/>
              <p:cNvCxnSpPr/>
              <p:nvPr/>
            </p:nvCxnSpPr>
            <p:spPr>
              <a:xfrm>
                <a:off x="1233720" y="198756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AutoShape 43"/>
              <p:cNvCxnSpPr/>
              <p:nvPr/>
            </p:nvCxnSpPr>
            <p:spPr>
              <a:xfrm>
                <a:off x="1060200" y="215928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4" name="Group 38"/>
            <p:cNvGrpSpPr/>
            <p:nvPr/>
          </p:nvGrpSpPr>
          <p:grpSpPr>
            <a:xfrm>
              <a:off x="1042560" y="5783400"/>
              <a:ext cx="356040" cy="351360"/>
              <a:chOff x="1042560" y="5783400"/>
              <a:chExt cx="356040" cy="351360"/>
            </a:xfrm>
          </p:grpSpPr>
          <p:sp>
            <p:nvSpPr>
              <p:cNvPr id="115" name="Oval 41"/>
              <p:cNvSpPr/>
              <p:nvPr/>
            </p:nvSpPr>
            <p:spPr>
              <a:xfrm>
                <a:off x="1042560" y="578376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6" name="AutoShape 40"/>
              <p:cNvCxnSpPr/>
              <p:nvPr/>
            </p:nvCxnSpPr>
            <p:spPr>
              <a:xfrm>
                <a:off x="1216080" y="578340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17" name="AutoShape 39"/>
              <p:cNvCxnSpPr/>
              <p:nvPr/>
            </p:nvCxnSpPr>
            <p:spPr>
              <a:xfrm>
                <a:off x="1042560" y="595512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18" name="Group 34"/>
            <p:cNvGrpSpPr/>
            <p:nvPr/>
          </p:nvGrpSpPr>
          <p:grpSpPr>
            <a:xfrm>
              <a:off x="4928760" y="1987560"/>
              <a:ext cx="356040" cy="351360"/>
              <a:chOff x="4928760" y="1987560"/>
              <a:chExt cx="356040" cy="351360"/>
            </a:xfrm>
          </p:grpSpPr>
          <p:sp>
            <p:nvSpPr>
              <p:cNvPr id="119" name="Oval 37"/>
              <p:cNvSpPr/>
              <p:nvPr/>
            </p:nvSpPr>
            <p:spPr>
              <a:xfrm>
                <a:off x="4928760" y="198792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0" name="AutoShape 36"/>
              <p:cNvCxnSpPr/>
              <p:nvPr/>
            </p:nvCxnSpPr>
            <p:spPr>
              <a:xfrm>
                <a:off x="5102280" y="198756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21" name="AutoShape 35"/>
              <p:cNvCxnSpPr/>
              <p:nvPr/>
            </p:nvCxnSpPr>
            <p:spPr>
              <a:xfrm>
                <a:off x="4928760" y="215928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22" name="Group 29"/>
            <p:cNvGrpSpPr/>
            <p:nvPr/>
          </p:nvGrpSpPr>
          <p:grpSpPr>
            <a:xfrm>
              <a:off x="4915080" y="5783400"/>
              <a:ext cx="356040" cy="351360"/>
              <a:chOff x="4915080" y="5783400"/>
              <a:chExt cx="356040" cy="351360"/>
            </a:xfrm>
          </p:grpSpPr>
          <p:sp>
            <p:nvSpPr>
              <p:cNvPr id="123" name="Oval 32"/>
              <p:cNvSpPr/>
              <p:nvPr/>
            </p:nvSpPr>
            <p:spPr>
              <a:xfrm>
                <a:off x="4915080" y="5783760"/>
                <a:ext cx="355680" cy="3510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4" name="AutoShape 31"/>
              <p:cNvCxnSpPr/>
              <p:nvPr/>
            </p:nvCxnSpPr>
            <p:spPr>
              <a:xfrm>
                <a:off x="5088600" y="5783400"/>
                <a:ext cx="1080" cy="3513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AutoShape 30"/>
              <p:cNvCxnSpPr/>
              <p:nvPr/>
            </p:nvCxnSpPr>
            <p:spPr>
              <a:xfrm>
                <a:off x="4915080" y="5955120"/>
                <a:ext cx="35640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6" name="Rectangle 49"/>
            <p:cNvSpPr/>
            <p:nvPr/>
          </p:nvSpPr>
          <p:spPr>
            <a:xfrm>
              <a:off x="665640" y="1774800"/>
              <a:ext cx="4820040" cy="4609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8"/>
            <p:cNvSpPr/>
            <p:nvPr/>
          </p:nvSpPr>
          <p:spPr>
            <a:xfrm>
              <a:off x="1224360" y="130968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"/>
            <p:cNvSpPr/>
            <p:nvPr/>
          </p:nvSpPr>
          <p:spPr>
            <a:xfrm>
              <a:off x="3737880" y="130968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6"/>
            <p:cNvSpPr/>
            <p:nvPr/>
          </p:nvSpPr>
          <p:spPr>
            <a:xfrm rot="2133600">
              <a:off x="5169960" y="601704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3"/>
            <p:cNvSpPr/>
            <p:nvPr/>
          </p:nvSpPr>
          <p:spPr>
            <a:xfrm rot="19353600">
              <a:off x="41400" y="6017040"/>
              <a:ext cx="1182960" cy="6930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475" h="282">
                  <a:moveTo>
                    <a:pt x="49" y="115"/>
                  </a:moveTo>
                  <a:cubicBezTo>
                    <a:pt x="199" y="140"/>
                    <a:pt x="169" y="146"/>
                    <a:pt x="349" y="130"/>
                  </a:cubicBezTo>
                  <a:cubicBezTo>
                    <a:pt x="384" y="135"/>
                    <a:pt x="433" y="117"/>
                    <a:pt x="454" y="145"/>
                  </a:cubicBezTo>
                  <a:cubicBezTo>
                    <a:pt x="475" y="173"/>
                    <a:pt x="469" y="231"/>
                    <a:pt x="439" y="250"/>
                  </a:cubicBezTo>
                  <a:cubicBezTo>
                    <a:pt x="388" y="282"/>
                    <a:pt x="319" y="260"/>
                    <a:pt x="259" y="265"/>
                  </a:cubicBezTo>
                  <a:cubicBezTo>
                    <a:pt x="199" y="260"/>
                    <a:pt x="139" y="258"/>
                    <a:pt x="79" y="250"/>
                  </a:cubicBezTo>
                  <a:cubicBezTo>
                    <a:pt x="63" y="248"/>
                    <a:pt x="36" y="251"/>
                    <a:pt x="34" y="235"/>
                  </a:cubicBezTo>
                  <a:cubicBezTo>
                    <a:pt x="0" y="0"/>
                    <a:pt x="102" y="221"/>
                    <a:pt x="49" y="115"/>
                  </a:cubicBezTo>
                  <a:close/>
                </a:path>
              </a:pathLst>
            </a:custGeom>
            <a:solidFill>
              <a:srgbClr val="ddd8c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59"/>
          <p:cNvSpPr/>
          <p:nvPr/>
        </p:nvSpPr>
        <p:spPr>
          <a:xfrm>
            <a:off x="5653080" y="4321800"/>
            <a:ext cx="288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a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jación de fotografía y transparencia a una m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8692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Tarea 2: Leyenda Prelimina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611280" y="5380560"/>
            <a:ext cx="77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Figura 3: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Ejemplo de una leyenda de interpre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658800" y="1684440"/>
            <a:ext cx="7848720" cy="3287520"/>
            <a:chOff x="658800" y="1684440"/>
            <a:chExt cx="7848720" cy="3287520"/>
          </a:xfrm>
        </p:grpSpPr>
        <p:sp>
          <p:nvSpPr>
            <p:cNvPr id="135" name="AutoShape 6"/>
            <p:cNvSpPr/>
            <p:nvPr/>
          </p:nvSpPr>
          <p:spPr>
            <a:xfrm>
              <a:off x="658800" y="1684440"/>
              <a:ext cx="7840800" cy="32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8" descr=""/>
            <p:cNvPicPr/>
            <p:nvPr/>
          </p:nvPicPr>
          <p:blipFill>
            <a:blip r:embed="rId1"/>
            <a:stretch/>
          </p:blipFill>
          <p:spPr>
            <a:xfrm>
              <a:off x="658800" y="1684440"/>
              <a:ext cx="7848720" cy="32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3300"/>
                </a:solidFill>
                <a:latin typeface="Arial"/>
              </a:rPr>
              <a:t>Tabla 1. </a:t>
            </a: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Leyenda</a:t>
            </a:r>
            <a:r>
              <a:rPr b="0" lang="nl-NL" sz="4000" spc="-1" strike="noStrike">
                <a:solidFill>
                  <a:srgbClr val="cc3300"/>
                </a:solidFill>
                <a:latin typeface="Arial"/>
              </a:rPr>
              <a:t> de Interpretació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5840" y="2214720"/>
          <a:ext cx="8572320" cy="3489120"/>
        </p:xfrm>
        <a:graphic>
          <a:graphicData uri="http://schemas.openxmlformats.org/drawingml/2006/table">
            <a:tbl>
              <a:tblPr/>
              <a:tblGrid>
                <a:gridCol w="671400"/>
                <a:gridCol w="1090800"/>
                <a:gridCol w="1090440"/>
                <a:gridCol w="1090800"/>
                <a:gridCol w="1090440"/>
                <a:gridCol w="1090440"/>
                <a:gridCol w="1090800"/>
                <a:gridCol w="13572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/h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/ assoc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97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3: Interpretación 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124000" y="2494080"/>
            <a:ext cx="3240000" cy="2736360"/>
            <a:chOff x="2124000" y="2494080"/>
            <a:chExt cx="3240000" cy="2736360"/>
          </a:xfrm>
        </p:grpSpPr>
        <p:sp>
          <p:nvSpPr>
            <p:cNvPr id="141" name="Oval 5"/>
            <p:cNvSpPr/>
            <p:nvPr/>
          </p:nvSpPr>
          <p:spPr>
            <a:xfrm>
              <a:off x="3008880" y="249408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2124000" y="428400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7"/>
            <p:cNvSpPr/>
            <p:nvPr/>
          </p:nvSpPr>
          <p:spPr>
            <a:xfrm>
              <a:off x="4381200" y="4070520"/>
              <a:ext cx="982800" cy="9464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3567960" y="274140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2140920" y="4571280"/>
              <a:ext cx="35280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4814280" y="4127760"/>
              <a:ext cx="352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1"/>
          <p:cNvSpPr/>
          <p:nvPr/>
        </p:nvSpPr>
        <p:spPr>
          <a:xfrm>
            <a:off x="5292720" y="354312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</a:rPr>
              <a:t>Figura 4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5f5f5f"/>
                </a:solidFill>
                <a:latin typeface="Arial"/>
              </a:rPr>
              <a:t>Ejemplo de mapeo de unidad de tierra, mezclando características de la imagen y características de uso de la tierra.</a:t>
            </a: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WesselerClassEx"/>
          <p:cNvPicPr/>
          <p:nvPr/>
        </p:nvPicPr>
        <p:blipFill>
          <a:blip r:embed="rId1"/>
          <a:stretch/>
        </p:blipFill>
        <p:spPr>
          <a:xfrm>
            <a:off x="755640" y="1341360"/>
            <a:ext cx="4095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area 3: Interpre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reglas cartográficas básicas sobre mapas de polígono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Todos los polígonos deberían ser cerrado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Cada polígono con las mismas características debería tener el mismo símbolo (etiqueta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polígono menor es generalmente de 5 x 5 mm, o 2 x 10 mm para unidades alongada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5:28:43Z</dcterms:created>
  <dc:creator>Jeroen Verplanke</dc:creator>
  <dc:description/>
  <cp:keywords>pgis training kit</cp:keywords>
  <dc:language>en-US</dc:language>
  <cp:lastModifiedBy>Valeria</cp:lastModifiedBy>
  <dcterms:modified xsi:type="dcterms:W3CDTF">2010-08-22T20:08:11Z</dcterms:modified>
  <cp:revision>112</cp:revision>
  <dc:subject/>
  <dc:title>Presentacion 2 - Mapeo de la cobertura de la tierra con fotografías aére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