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7f7f7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6F9D-6F95-4087-BDE0-3E092E5101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3DFD-872A-44B0-8517-F388408EA4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Nota para el presentador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: Sírvase estudiar el Material Informativo para el Participante de la Unidad M11U01 antes de usar esta pres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3930-C056-4D6C-AFE0-B6112B2FC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32CF-320D-419D-B4C0-E8760D0F34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434D-A822-4427-9F72-AE5EAD163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7D7E-074D-4F3A-AD69-BC393EDDEA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4011-D8FA-4091-9630-9E55037AE0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77EE-9BCB-4A79-B2AF-04F8C77EFE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F4F8-64D8-4CC5-90E4-CA78130D33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7BFB-0CD3-49DA-84D6-4155A1F4F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23A6-B433-488D-836B-D9E200E98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9F7A-0574-453A-8708-C7F88FE1EF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a es una lista de los sensores populares. El Material Informativo para el Participante proporciona una descripción elaborada de estos sens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99B-702A-4F9C-9C73-7683C51FF4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2A88-252C-4A3E-947B-D442D10BD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0F87-EF21-4A64-B733-4292265C6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5A99-BD80-43C2-B460-1037B4682C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735D-2F0B-4F58-B0DC-86CE43ACBB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420A-2A13-4D41-A6B2-4FF1BC6413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10FC-3777-4A8D-9CD7-0E7D2D9C71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0279-33C3-4238-A4C0-4F456B277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F775-655C-4895-BADA-99FEB1CF88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E982-8549-4A8D-81AD-1DB84177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A03D-6836-4D9D-ACBA-2DA53792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1098-65DB-44B1-94DE-FF9C68F7C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292F8-E609-4EAE-99C6-B022D304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3A151-6011-4603-80D4-C3575071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13B48-98F7-4489-9DCF-4B31AC57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FC253-0BED-4787-950B-B2F72356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3D184-88A8-4D1B-8D64-31537849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F6AD8-7578-4353-B4A2-DCB45B48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96814-861A-4E2B-ADB5-FB834444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EB67-1894-4A2B-BC3C-79907C6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10FBB-926D-4FEE-87DC-43650199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A6564-DFA6-4A69-A11E-236D5D80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4F94F-DDA8-422B-B400-86CAD851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795B3-C89F-4FB0-B77B-CF35A387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F82B5-DD7B-4648-8E52-744913F4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9628-98B0-4A2C-86E5-D50D97CE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3FC6-4340-436A-9E10-8A1D6F08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C7A8-8BB2-4A40-BF51-CD333CEE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F02F-ABD4-4E91-AED4-2F6E026C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3707-889F-401A-94B5-369EEAD0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115D-E722-4933-8CB0-85E4154F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0AA8F-29CD-43EE-8A09-6F6E6354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FB98-5632-4C3B-BEE2-D415D0D150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67CF-AF11-4598-AD8B-6D8D813DED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 a las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mágenes de Teledete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430800" y="514368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J.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1U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a mayoría de las aplicaciones de mapeo, se requieren fotografías aéreas vertica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oblicuas se obtienen cuando el eje de la cámara no es vertic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oblicuas raras veces son usadas con fines de mape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ergía Electromagnét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eledetección se basa en la detección de energía electromagnética (EM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mo la velocidad de la luz es constante, la longitud de la onda y la frecuencia están inversamente relacionadas entre sí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7" name="Picture 4" descr="fig2-3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spectro Visibl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La luz visible cubre solamente una muy pequeña parte de este espectr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0" name="Picture 4" descr="fig2-5"/>
          <p:cNvPicPr/>
          <p:nvPr/>
        </p:nvPicPr>
        <p:blipFill>
          <a:blip r:embed="rId1"/>
          <a:srcRect l="0" t="0" r="0" b="10544"/>
          <a:stretch/>
        </p:blipFill>
        <p:spPr>
          <a:xfrm>
            <a:off x="468360" y="1197000"/>
            <a:ext cx="82072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erferencia Atmosféric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5320" y="1600200"/>
            <a:ext cx="38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95959"/>
                </a:solidFill>
                <a:latin typeface="Arial"/>
              </a:rPr>
              <a:t>Las interacciones de la energía del sol con materiales físicos hacen que esta energía sea absorbida, dispersada, transmitida y reflejada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Picture 4" descr="fig2-6"/>
          <p:cNvPicPr/>
          <p:nvPr/>
        </p:nvPicPr>
        <p:blipFill>
          <a:blip r:embed="rId1"/>
          <a:stretch/>
        </p:blipFill>
        <p:spPr>
          <a:xfrm>
            <a:off x="611280" y="476280"/>
            <a:ext cx="46130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Un sensor electrónico “mide  la intensidad” del terreno y la señal eléctrica analógica es muestreada en una imagen y convertida a un número digital (DN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6" name="Picture 4" descr="fig12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Una imagen digital es normalmente mostrada utilizando una escala de gris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Un píxel que tenga valor cero se muestra en negro. Un píxel que tenga el valor 255 se muestra en blanco. Cualquier número digital intermedio se vuelve algún tono de gri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a forma alternativa de mostrar datos de banda única es usar una escala de color para obtener una imagen en “pseudo color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ueden asignarse colores, que vayan desde el azul vía cian, verde y amarillo al rojo,  a diferentes porciones del rango de números digitales de 0 a 255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alógico a Digital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A veces, se forma un color verdadero compuesto, donde los canales RGB se relacionan con las bandas de longitud de onda roja, verde y azul de una cámara o escáner multiespectr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95959"/>
                </a:solidFill>
                <a:latin typeface="Arial"/>
              </a:rPr>
              <a:t>La característica más saliente de falsos colores compuestos es que la vegetación aparece en un color rojo-púrpur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4358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presen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lor natur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seudo natura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lso colo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467240" y="638280"/>
            <a:ext cx="467676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Sensores Populares Transportados por el Espaci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NDS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(TERRA) AST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PO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SR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KONOS, QuickBird, WorldView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Qué es la teledetec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eledetección (RS) es el arte, ciencia y tecnología de observar un objeto, escena o fenómeno mediante técnicas basadas en instrumen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Qué es la teledetec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detección se aplica en muchos campos, incluyendo arquitectura, arqueología, medicina, control de calidad industrial, robótica, mapeo extraterrestre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interés de este Módulo es, sin embargo, la observación de la Tierra desde plataformas aerotransportadas o transportadas por el espaci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Qué es la teledetec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este Módulo, tanto las fotografías como las imágenes satelitales son consideradas como un tipo de imagen de teledetec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omar y utilizar fotografías es la técnica de teledetección más antigua, aunque la más comúnmente aplicad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aéreas son la fuente de datos primaria para mapeo topográfico de mediana a gran escala, muchos relevamientos catastrales, proyectos de ingeniería civil y planificación urban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otografías aéreas también son una fuente útil de información para silvicultores, ecologistas, científicos del suelo, geólogos y muchos otr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ueden distinguirse dos amplias categorías de fotografías aérea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otografías vertica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otografías oblicu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Vertical</a:t>
            </a: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 versus Oblicu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71760" y="2214720"/>
            <a:ext cx="54799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Vertical</a:t>
            </a: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 versus Oblicu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23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00200" y="162864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-1080" y="4274640"/>
            <a:ext cx="125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4340160" y="1628640"/>
            <a:ext cx="43974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Jeroen Verplanke</dc:creator>
  <dc:description/>
  <cp:keywords>pgis training kit</cp:keywords>
  <dc:language>en-US</dc:language>
  <cp:lastModifiedBy>Valeria</cp:lastModifiedBy>
  <dcterms:modified xsi:type="dcterms:W3CDTF">2010-08-22T20:02:34Z</dcterms:modified>
  <cp:revision>51</cp:revision>
  <dc:subject/>
  <dc:title>Presentación - Introducción a las Imágenes de Teledetec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